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1199-C734-41CE-A1B4-8FF4995E3F9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FE6E-8FF8-41D2-B7E6-C635D54AA2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1E8-E659-4D5E-A5FE-0751F0FC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9A2-662B-4620-A906-EA87F92A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CDC-7812-489E-A6E3-2F65E483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412-A1FF-442A-BCD2-DA5ED1CD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AC4-2171-493D-A7E4-A251FAF9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C36-5FD6-4429-8682-A2FBEDEF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0B8-CEC5-40BF-A41F-AD2AFDA6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9D5-3AEB-4A52-9F4E-924C1638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EDA-05B0-4134-9484-4B15032E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F9F-5CE0-45B6-A703-E94AA81D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425-7397-4D75-A536-C729C05E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590-148C-4EEC-A746-E0ECACCC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6C2D-AA80-482C-B3AA-50EA7AA34B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5-4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用人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用人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0505w1</cp:lastModifiedBy>
  <dcterms:modified xsi:type="dcterms:W3CDTF">2012-09-24T06:38:52Z</dcterms:modified>
  <cp:revision>20</cp:revision>
  <dc:subject/>
  <dc:title>PowerPoint 演示文稿</dc:title>
</cp:coreProperties>
</file>